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1F846-D0B9-48CB-A087-911326452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04264-8CD7-4B50-9C0D-381FA4819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2B8CF-A5C0-4A6A-B0C6-F187E8FAF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C117C-ACBB-4863-B6A1-93A5096AB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72414-0FCA-4CC2-84B1-5C9A400F0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EBB15-484B-4DAC-A63A-E64C685D8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BB260-A037-49FB-9BA2-5FAF6BD3F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8FA27-E9C6-45E3-8979-7FFA52626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6C84A-FB59-4CF7-974C-669F870D9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E8A18-3A56-4897-B468-B240808A4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77036-730D-4E7F-B316-F07E76742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D32FC-560A-4F2B-902B-6A4ACF98C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9D431-28D4-4074-978E-07758CF82F9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 flipV="1">
            <a:off x="228600" y="762120"/>
            <a:ext cx="0" cy="5867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1905120" y="228600"/>
            <a:ext cx="70102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6824880" y="62420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33cc"/>
                </a:solidFill>
                <a:latin typeface="Arial"/>
                <a:ea typeface="隶书"/>
              </a:rPr>
              <a:t>韩翼制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0"/>
            <a:ext cx="2286000" cy="17524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展厅零售技巧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提供真正意义的服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塑造以客为尊的经营理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例：麦当劳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 服务、品质、价值、整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多倾听客户的声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撷取赢家经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员工培训与生涯规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扫除争取客户的障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行动与考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以身作则（主管人员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消费者购买的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种心态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注意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过路时扫描商品一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兴趣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对商品抱有兴趣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联想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联想自己使用该商品时的情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欲望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希望拥有该商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比较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考虑购买何者较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信念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信任该商品的货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行动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下定决心购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满足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对购入的商品及接待服务感到满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顾客购买心理与销售应对技巧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顾 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客 理     注      兴       联 欲     比  信     行       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购 反     意      趣       想 求     较  念     动       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买 应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销 应    等               商 商      商 商     金 商    商 欢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售 对    待       接    品 品      品 品     钱 品    品 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人 技    时       近    提 说      推 保     接 包    保 顾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员 巧    机               示 明      荐 证     受 装    养 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待机的六项原则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决定位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守在有利的位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以正确的姿势来等待顾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没有顾客的时候，要进行检查及整理商品的工作，以备下一次的贩卖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经常意识到顾客的存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不要七嘴八舌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趋进招呼的七个机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顾客注意某一特定商品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顾客用手接触商品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顾客好象在寻找东西的时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与顾客四目交接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顾客与同伴商量的时候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顾客放下随身物品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顾客窥视商品陈列柜和商品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商品提示的五个原则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让顾客观察使用状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尽可能让顾客触摸商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让顾客感受到该商品的价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让顾客看到复数以上的商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让顾客从低价格看到高价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利用提问了解顾客需要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不要连续发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顺应顾客的要求介绍商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提问先易后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想办法提出一些促使顾客购买的问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创造良好的购买范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产品介绍的技巧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想办法让顾客多看多接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把产品的特点转化成顾客的好处，并给予证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进行比较分析，增强顾客购买信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产品销售着眼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设计开发的意图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原料材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制造、加工技术、专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性能、用途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安全性、耐久性、信赖性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操作性、使用方法、保养方法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经济性、价格、折扣率辅助着眼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设计、色彩、感性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流行性、注意程度、评价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包装、商标、形象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各类活动、赠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售后服务、保证其他着眼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宣传广告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销售业绩、过去顾客的抱怨、普及率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其他顾客的体验、评价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顾客的购买讯号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拿起商品，热心地玩味，品尝，操作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细心地看商品说明书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突然独自叹气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很亲切地提问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问价格和购买条件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问售后服务情况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与同伴商量。心情很好的样子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重新回来看同一种商品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问商品销售情况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对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X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表示出好感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盯着商品思考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提出成交的方法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问题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选择法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(1/2 egg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假定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利害分析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警戒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起死回生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动作诉求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感性诉求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销售人员的服务意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真正的服务：非以金钱为中心，非降价，非折扣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非金钱（物质）服务的五大领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反复观察、学习、运用、提高，发展自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查出顾客不买的真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是不是目前还用不到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如果是付款方面的问题，我们可以再商量，尽量让您方便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价钱方面是否有什么不满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我的说明是否有什么地方不够清楚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您对这种商品不太感兴趣吗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您对这个厂牌有什么意见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是否不喜欢这种样式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您是否正考虑别家公司的商品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是否已经订货了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是否暂时还不考虑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五种异议的顾客处理技巧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产品异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需求异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来源异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时间异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价格异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十句处理异议的金玉良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总要真心的迎接它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经常聆听它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以冷静和放松的心情来处理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保持眼光的接触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以问题方式再次重述其异议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答复异议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从不争辩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从不捏造事实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认真的处理所有的异议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异议是达成交易的机会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客户类型分析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探价的客户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情景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店员：    它有以上这些特点，在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XX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及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XX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方面与目前的商品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全不同，相信您用了之后一定满意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顾客：    恩，不过这个部分及操作方面似乎有些不便……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店员：    不会的，感觉上或许有些不方便，但是用过的人都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操作简单、方便，这一点您大可放心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顾客：    是吗？我还是觉得有些麻烦。本来今天也没有打算购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买，我看改天在过来看看好了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特点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对策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情景Ⅱ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经常可以在店面看到这一幕——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顾客： 事实上，我只有这些预算……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店员： 那么，这边这个您觉得如何……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顾客：哦，这个嘛……好像太平凡了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店员：我们有贵一点的，相信您会喜欢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顾客：话是不错，但是以这种价钱应该买的起整套的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店员：就目前来说，恐怕有些困难……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顾客：那，我再看看吧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特点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对策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结伴同行的客户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顾客并不一定单独前来，有时候是夫妻同行、母（父）女（子）同行、兄妹同行、或朋友同行。人数方面有俩人同行、三人同行、甚至多人结伴同行。这种俩人以上相偕购物的顾客成为同伴客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情景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某银楼店里，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两位顾客结伴而来，其中一名妇女正为选择戒指伤透脑筋。另一位妇女在店里四处闲逛，一副无事可做的样子。这时——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：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，我已经看的眼花缭乱了……。你来看看，哪一个好？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：   这个嘛……。（回答得并不起劲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：   要是你，你会选择哪一个？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：    我吗？我觉得戒指这一类的东西个人喜好不同，我认为这个不错，你不见得赞同……，所以嘛，你还是自己决定好了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（这是顾客自己征求同伴者意见的情况。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特点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对策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见多识广的客户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1128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情景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顾客：   这只棒球手套的皮质、颜色、尺寸看起来完全一样，价格却相差一百五十元，到底差别在哪里？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店员：   这个……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（年轻的店员把两只手套拿在手上翻来覆去看了一阵子恩，……）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店员：   我想价格高的一方品质该比较好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（说完，满脸通红）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顾客：   我知道，品质好价格一定比较高。我问的是，它的优点在那里？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店员：   ……。（不晓得怎么应付）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顾客：   看来你似乎不太清楚。我虽然不专精，但是依我之见， 两者的差别应该在牛皮的部位不同，价格便宜的看似结实，价格贵的看似脆弱，实际上后者韧度够，用起来较结实，所以价格相对就提高了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店员：   原来如此！抱歉，我刚来不久，这方面的知识还有待加强，请多多包涵。我这里有商品目录，能不能请您指教一二 ……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（店员说着，拿出一本商品目录，摊在柜台上，这时，顾客态度认真……）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顾客：   其实我所知有限……。不过，我很欣赏你的诚实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这样吧，我要价格高的那副，另外，再买一箱棒球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特点：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对策：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购买特价品的客户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购买特价品的客户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商店以纪念开幕周年回馈特卖等名义举办大特卖活动时，的确吸引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了不少的顾客。不过，这种场合很少看到老客户，一波波的人潮都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是平日生疏的新面孔。也就是说，冲着特卖机会而来的特卖客占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大多数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情景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顾客：   对不起，有没有干净一点的？这件沾了一些污垢……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店员：   就是稍微脏了点才这么便宜……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顾客：   那有没有比较干净的？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店员：   ……太太，如果你要干净没污点的，这边都是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顾客：   价格——不一样？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店员：   当然不一样。这些是特价品，价格比较便宜，那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全是高级品，价格自然高出许多……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这种应付态度真差劲，不但不感激顾客的惠顾，反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而摆出轻视的态度，好象卖毛衣给她是一种恩惠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特点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对策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购买特价品的客户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情景Ⅱ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顾客：   今天早上广播的特价毛衣在哪里？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店员：   那个呀？已经卖完了。（态度很冷淡）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顾客：   不是才刚开始营业吗？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店员：   话是不错可是客人早就迫不及待的等在外面了，所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以……。（没有丝毫抱歉的意思）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顾客：   真的吗？特价毛衣到底有几件？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店员：   相当多啊……。这样好了，太太，您何不看看那件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毛衣？反正特价品的品质顶多就值那些钱，还是看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看这件毛衣如何？（店员拼命推销别的货品。）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顾客遇到这种情形多半会寻思：“中了他们的陷阱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了”，心里自然老大不高兴。如此一来，特卖活动只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是徒具形式罢了，一点意思也没有，真不知道为什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么要举办这个活动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特点：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对策：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</a:rPr>
              <a:t>熟客户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2692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情景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某绸缎庄内，老板隔着柜台正在招呼一名挑选羊毛布料的妇女。其他店员忙着整理架上的商品。这时候，店门前停了一辆高级轿车，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里面跨出一位衣着华丽的妇人，走向店内。老板见状，满脸堆笑，朝这边高声招呼：啊，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XX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太太，同时朝着有经验的店员使眼色，意思要他招呼这位太太进去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老板：   这位是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太太，欢迎、欢迎，里面请。（店员们抓住这个机会，争相欢迎到：“欢迎光临”。一时招呼声此起彼落，热闹的很。静悄悄的店内顿时充满生气。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太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太进来后，老板抽空将挑选羊毛布料的妇女丢给一位店员，自己走到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太太身边）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老板：   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太太，谢谢您经常关照小店……。二、三天前我在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XX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路口看见您，看您依旧神采奕奕，……。（东扯西扯，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说一大堆奉承话。接手招呼那位妇女的店员也一搭一唱，在旁边打帮腔。挑选羊毛料的妇女完全被抛在一旁）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顾客：   有没有好一点的质料？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店员：   以毛料来说，它的质料相当不错……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顾客：   ……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店员：   总之，这种毛料已经是数一数二……。（态度冷淡）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顾客：   是吗？我再考虑看看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店员：   好，慢走，下次再来。（一副心不在焉的样子，很容易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可以看出，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太太是该店的熟客，挑选羊毛料的妇女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是新顾客，因此在熟客户面前不受重视。）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特点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对策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增加服务意识应克服的顽疾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七种病症是低潮的元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轻视基本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人生枯燥乏味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丧失向上心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缺乏创意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抱怨不满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人际关系痴呆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自信心缺乏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熟客户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情景Ⅱ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老板：   啊，林小姐，里面请。我正念着您呢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顾客：   我晚上有个同学会，来的及吗？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老板：   晚上……。好的，我想办法帮您赶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顾客：   对不起，麻烦您了。（说完，走进贵宾室。美容院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的老板娘一有空会过来跟她打招呼几句。一些同在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贵宾室等待洗头的小姐们一边看杂志一边瞄向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边，思量着：这小姐不晓得是谁？大约三十分钟后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老板：   林小姐，劳您久候了。这边请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顾客：   啊，该我了……。（表情略显惊讶，抱歉似的站起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来。其他小姐们见状面面相觑，都暗自想到：太过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分，怎么可以连跳四个——）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特点：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对策：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犹豫不决的客户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情景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顾客：   对不起，麻烦把那个给我看一下……。刚说完——）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顾客：   那边那个也借看一下。（没多久——）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顾客：   啊，那个似乎也不错。（——三心二意，很难抉择。）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店员：   是啊，这个目前很流行，风评不错。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（顾客一下要这个，一下要那个，没多久，柜台上已排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满七、八种商品。顾客东摸摸、西挑挑，最后——）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顾客：   到底选哪一个好？哎呀，我已经眼花缭乱，不知如何是好了。这样吧，我明天再来。对不起，麻烦你了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（这位顾客就这样空手而回。）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任何一家商店都可以看到这样的情景。一开始，顾客只是东瞧瞧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西摸摸，到最后连自己也不晓得如何抉择，我们称这种顾客为「犹豫不决型」。一般说来，女性占大多数，尤其在选购流行性强的商品时更容易发生这种情形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特点：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对策：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顾客：   这三双看起来都不错。依你看，哪一双最合适？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老板：   这个嘛…。个人喜好不同，我也不好说什么，不过这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双绿色的似乎最适合太太…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顾客：   哦？我觉得这双银色的也不错，你看呢？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老板：   是啊！那双也很漂亮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顾客：   这双乳白色的最能衬托…，是不是？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（这位妇女在老板八面玲珑的应对下，完全失去选择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力。最后——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顾客：   谢谢你费心介绍，我回去考虑看看再来，对不起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事情就这样结束了。老板一边发牢骚，一边将乱七八糟的鞋子摆回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原来的地方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特点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对策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慎重型的客户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情景Ⅰ 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某电器行店内——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顾客：   我想买一台冰箱，能不能让我看一下？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店员：   欢迎光临，请进。我们有很多机型，您慢慢看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顾客：   我是外行，机械方面完全不懂，为什么每台价钱都那么高啊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店员：   这些都是新机种，性能特别好，外观设计也很别致，所以价格方面自然提高许多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顾客：   或许吧！不过这些价格都是超出我的预算范围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店员：   现在你或许觉得很贵，等你每天使用它后，相信府上大大小小包括您在内，一定会觉得当初的决定毕竟是对的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顾客：   也许吧！不过价格方面比我想象中高太多了…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店员：   如果您喜欢，价钱方面可以算便宜一点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顾客：   便宜一点？你是说可以打八折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店员：   您说笑了…。我特别优惠您，少算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XX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元好了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顾客：  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XX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元算什么优待，简直和没打折一样嘛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店员：   您不晓得，现在同行竞争的很激烈，简直没有什么利润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这样好了，我再降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XX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元，总共少算您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XX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元…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顾客：   ……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店员：   先生，您到底多少钱要买？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顾客：   这…，改天再和我太太过来看好了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特点：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对策：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609120" y="1143000"/>
            <a:ext cx="80773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情景Ⅱ    </a:t>
            </a: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两位同伴走进一家服饰店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：      这件外套不错，可是价钱似乎贵了点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店员：   请相信我们，这个价钱绝对合理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：      哦？可是同样一件外套，先前那家商店价格却定的低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店员：   会不会是某些地方看错了？两件衣服虽然看起来一样，一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拿在手中对比，自然分得出好坏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：      可是真的跟这件一样啊！喂，你说是不是？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：      是啊！他说的没错，能不能算便宜一点？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店员：   这个……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：      你们是不是详细调查过那家商店，不然怎么说的那么肯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定？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店员：   没有，可是我们店里走的是薄利多销的路线，绝对不可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能比别家商店贵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：      你是说不能减价？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：      不二价虽然值得鼓励，不过可别买到贵的，下次再来吧！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：      好吧！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特点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对策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杀价型客户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顾客杀价的手法很多，例如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顾客：   就买这个好了。能不能少算点？（这种杀价相当温和。）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（有些人认为店方理所当然要减价，杀起价来态度强硬：）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顾客：   怎样？你打算打几折？（也有一种施恩型：）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顾客：   我特地从那么远的地方来，好歹少算一点嘛！（在施恩型中，有人态度强硬，比较难对付：）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顾客：   前面有那么多家商店我都没去，直接上你们这儿。冲着这点你也应该少算点啊？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（体贴型的杀价法是：）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顾客：   我知道近来生意不好做，利润少，很难开口要你减价，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是我自己钱夹方面也有困难，能不能少算些？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（也有利用其他商店的价格来杀价的 牵制型：）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顾客：   我本来不想说，但是前面那家△△△也有和这个相同的东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西，标示不二价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XX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元，这个价格你们也可以卖吧？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（针对店方要害的杀价法是：）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顾客：   不能杀价没关系，顶多不买…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特点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对策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我个人理解—销售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销售就是炒油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产品：油菜、个人品格：敷料（油和盐）、激情：碟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销售过程是人格的魅力的展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激情是对产品完整的烘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我们的销售人员应该让每个客户都知道我们的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品是世界上最棒的实木地板。一定让他们带着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憾走出我们的卖场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srona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销售反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深深爱着我们的产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给爱他的人以同样无微不至的关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榜样的力量是无穷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既要满足消费者、又要引导消费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服务分销商，服务最终客户，决不和客户吵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三意”是基本的待客销售之道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诚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熟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创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不可欠缺的七项意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目的（目标）意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利益（成本）意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顾客意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品质意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问题（改善）意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规律意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合作意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服务的“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5S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迅速（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Speed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灵巧（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Smart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微笑（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Smile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诚恳（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Sincerity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研究（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Study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销售人员的态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不该有的态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衣冠、仪容不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表情阴暗，脸上没有笑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仅以口头解释，没有配合身体语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经常叹气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视线始终朝下，没有直视对方的眼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大腿经常神经质地抖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头左右振动，做出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NO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动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紧要关头在客户面前抽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很少做备忘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销售人员应有的态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应有的态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服装、仪容端庄，给人很好的印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经常面带微笑，表情明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善用脸部、两手及身体语言进行商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经常笑容满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视线放在正确位置，且适时看着对方的眼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脚跟始终着地，不要上下抖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商谈中决不抽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必要时记得做备忘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语言和激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礼貌用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自来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激情销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07T05:09:57Z</dcterms:created>
  <dc:creator>ZHQ</dc:creator>
  <dc:description/>
  <dc:language>en-US</dc:language>
  <cp:lastModifiedBy>DELL</cp:lastModifiedBy>
  <dcterms:modified xsi:type="dcterms:W3CDTF">2005-06-12T10:25:37Z</dcterms:modified>
  <cp:revision>3</cp:revision>
  <dc:subject/>
  <dc:title>展厅零售技巧</dc:title>
</cp:coreProperties>
</file>