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A8E-5C3C-4714-BEF3-3589F0D2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75F-1477-45AA-8757-6CD4EA7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975-5C99-4291-9423-8B58AE00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AA8-BF7D-4C82-AA5F-66295A6D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6C2F-538D-4E5D-ACD6-5BDFD68B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57D6-272F-4DCB-AC9A-D87C709E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C372-E640-4020-9243-AE5B55C2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F1E-FB12-4A02-8895-6732BCE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3D01-98EC-4E11-94A8-A28EC73B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6F46-F54A-41A7-B126-19C891A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804E-232D-49EB-B583-5DA8DE7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E13-0260-44F9-91E7-BB2650E0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5AC3-E74F-4A82-9CFD-7084221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3899-3AEF-49EA-A445-DA4C696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D8E2-23AD-4D8C-B169-15B9B3D7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B1A-6DB4-4603-839D-7489C242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0872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54560" y="365724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625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50872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54560" y="4533120"/>
            <a:ext cx="14720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A988-927F-4CE0-87C6-EEBC7F7C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944-A808-48DD-8E09-A1721BB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57F-E1A5-4938-A2A9-7E40D70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6E5-32E2-41B4-A43D-4909F5AA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2160" y="1066680"/>
            <a:ext cx="464796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7BA-FFC9-4123-9177-34184490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6B9-5502-46FB-A482-5A17510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5400" y="453312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679-06B9-4825-9775-C355E2F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252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5400" y="3657240"/>
            <a:ext cx="223092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2520" y="4533120"/>
            <a:ext cx="45720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224-1BD7-41F0-A3C9-227FED27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DEA-B8F9-47C2-9A8F-F514815EAC4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9F17-43F1-4EA4-A5C2-1624CF78289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514600" cy="904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莱茵阳光区域经理促销活动培训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莱茵阳光山西公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地址：太原市千峰南路千锋商务大厦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2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电话：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0351-6048018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3100001825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胡云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6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竞争品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地市场排名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位的品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主销产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销售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宣传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促销方式及效果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店面状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人员状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7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广宣分类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报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公车条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彩车及车队（自行车、摩托车、汽车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区、街区及市场条幅、海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单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短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通道及协作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调查内容包括价格、消费者接受程度、主流宣传方式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华文行楷"/>
              </a:rPr>
              <a:t>二、方案及预算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根据市场调查的各项信息确立促销方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完整的方案必须配备一个合理准确的预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促销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宣传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方案必须“量体裁衣”确定人员及物料方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7767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三、活动准备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时间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5-3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总体运作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工作要求★ 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步步为营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循序渐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人员准备★ ★ ★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正式工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临时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物料准备★ ★ ★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场内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场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客户信息收集（预定单）★ ★ ★ ★ 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内部信息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店外信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莱茵阳光logo%20拷贝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时间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2" name="莱茵阳光logo%20拷贝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971800" cy="905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5-3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总体运作（时间可根据市场和促销方式适当调整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口头发布活动信息，收集客户信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订单签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严把价格关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(a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零售价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活动价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广宣开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临时工启用，（配合正式工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订单开始签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短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步步为营、循序渐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——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电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5410080"/>
            <a:ext cx="1067040" cy="990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工作要求★ 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促销活动最重要的因素——”气氛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作做到“步步为营、循序渐进”的目的在于少花钱，多办事；同时。让工作团队和客户都有紧迫感；三则，工作团队更能有条不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步步为营、循序渐进是指：工作切忌跳跃式开展。什么时间做什么事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、人员准备★ ★ ★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正式工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临时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　　↓ 　　　　　　　　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实际工作为主　　　宣传工作为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宣传工作为辅　　　实际工作为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保安人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演出、礼仪等配套人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莱茵阳光logo%20拷贝" descr=""/>
          <p:cNvPicPr/>
          <p:nvPr/>
        </p:nvPicPr>
        <p:blipFill>
          <a:blip r:embed="rId2"/>
          <a:stretch/>
        </p:blipFill>
        <p:spPr>
          <a:xfrm>
            <a:off x="6629400" y="595296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物料准备★ ★ ★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85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内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　↓ 　　　  　　　　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 条幅、喷绘             舞台、条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拱门、气球             拱门、氢气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   吊旗、Ｘ展架　　      大型喷绘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服装、绶带            宣传及演出队伍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球、价格牌               礼品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……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以上选择性使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、客户信息收集（预定单）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★ ★ ★ ★ ★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内部信息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店外信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店内新信息                 小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已安装客户              装饰公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已订单为安装客户           木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内部员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。。。。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  <a:ea typeface="华文行楷"/>
              </a:rPr>
              <a:t>四、活动开展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-7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天集中轰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大力宣传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客户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物料制作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预订单签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活动前一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场地布置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预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572"/>
                </a:solidFill>
                <a:latin typeface="Arial"/>
                <a:ea typeface="华文行楷"/>
              </a:rPr>
              <a:t>促销的精华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团队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终端客户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气氛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活动现场的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大力宣传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造势不好等于失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以工作都应该集中在宣传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把握宣传的细节—广告方式、形式、费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区、媒体、通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工程回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2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、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集中轰炸之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客户通知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短信息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简短通知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精确告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电话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配合短信简短通知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利诱告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拜访—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一次搞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物料制作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负责物料的人员应把握物料使用的时效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物料制作尽量使各物料可重复使用（内容，时间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4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集中轰炸之“预订单签订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定单签订的由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预定单签订的技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时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机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强调优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把握签单灵活性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----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花色、型号、数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把握订金额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解释活动流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活动前一天之“场地布置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总体把握：品牌、主题、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充分考虑顾客的购买舒适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内场：根据活动流程布置，样品及其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外场：考虑天气、时间、市政等外部因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 活动前一天之“通知客户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对未签订预定单的客户重点通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目标客户过少，安排“托”制造气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如果目标客户过少，通知已签订客户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预算确定通知数量，规避抽奖等支出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活动前一天之“活动预演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意外防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流程演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收尾工作应该在预演后安排妥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所有人员必须到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9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五、活动现场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按部就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灵活控制机动奖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控制时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保安工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商场配合工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Arial"/>
                <a:ea typeface="华文行楷"/>
              </a:rPr>
              <a:t>六、鸣鼓收兵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利用媒体和电话等通知客户，活动结束并表示感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让活动隐藏性继续下去，继续定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控制活动的时间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把握活动的可信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4" name="莱茵阳光logo%20拷贝" descr=""/>
          <p:cNvPicPr/>
          <p:nvPr/>
        </p:nvPicPr>
        <p:blipFill>
          <a:blip r:embed="rId2"/>
          <a:stretch/>
        </p:blipFill>
        <p:spPr>
          <a:xfrm>
            <a:off x="6400800" y="5419800"/>
            <a:ext cx="251460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62160" y="1066320"/>
            <a:ext cx="4647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谢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谢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大</a:t>
            </a:r>
            <a:br>
              <a:rPr sz="7200"/>
            </a:br>
            <a:r>
              <a:rPr b="1" lang="zh-CN" sz="7200" spc="-1" strike="noStrike">
                <a:solidFill>
                  <a:srgbClr val="007572"/>
                </a:solidFill>
                <a:latin typeface="Arial"/>
                <a:ea typeface="华文行楷"/>
              </a:rPr>
              <a:t>家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2819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7" name="莱茵阳光logo%20拷贝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5812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内容概述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一、市场调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二、方案及预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三、活动准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四、活动开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五、活动现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六、鸣鼓收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  <a:ea typeface="华文行楷"/>
              </a:rPr>
              <a:t>一、市场调查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经销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市场信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城市状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终端客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小区信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竞争品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广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物料费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1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经销商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46160" y="2014560"/>
          <a:ext cx="6904080" cy="4292640"/>
        </p:xfrm>
        <a:graphic>
          <a:graphicData uri="http://schemas.openxmlformats.org/drawingml/2006/table">
            <a:tbl>
              <a:tblPr/>
              <a:tblGrid>
                <a:gridCol w="841320"/>
                <a:gridCol w="784440"/>
                <a:gridCol w="498240"/>
                <a:gridCol w="609840"/>
                <a:gridCol w="384120"/>
                <a:gridCol w="610920"/>
                <a:gridCol w="613080"/>
                <a:gridCol w="610920"/>
                <a:gridCol w="611280"/>
                <a:gridCol w="612720"/>
                <a:gridCol w="727200"/>
              </a:tblGrid>
              <a:tr h="581400">
                <a:tc grid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 场 分 析 表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区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代理商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详细地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电话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品行才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店面几个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是否专卖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效益如何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与其谈否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不合作原因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</a:t>
                      </a: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</a:t>
                      </a: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县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 u="sng">
                          <a:solidFill>
                            <a:srgbClr val="0033cc"/>
                          </a:solidFill>
                          <a:uFillTx/>
                          <a:latin typeface="宋体"/>
                        </a:rPr>
                        <a:t>       </a:t>
                      </a: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685800"/>
            <a:ext cx="822816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市场信息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295280"/>
          <a:ext cx="8229600" cy="5257440"/>
        </p:xfrm>
        <a:graphic>
          <a:graphicData uri="http://schemas.openxmlformats.org/drawingml/2006/table">
            <a:tbl>
              <a:tblPr/>
              <a:tblGrid>
                <a:gridCol w="700200"/>
                <a:gridCol w="1137960"/>
                <a:gridCol w="1138320"/>
                <a:gridCol w="1138320"/>
                <a:gridCol w="700200"/>
                <a:gridCol w="1576440"/>
                <a:gridCol w="1137960"/>
                <a:gridCol w="700200"/>
              </a:tblGrid>
              <a:tr h="110916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区域市场调查总结表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区域容量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建材市场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市场状况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品牌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莱茵阳光销量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意向客户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33cc"/>
                          </a:solidFill>
                          <a:latin typeface="宋体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城市状况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人口数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地理状况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活动集中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市场分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城市经济能力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支柱产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终端客户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人均消费能力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衣、食、住、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消费观念及习惯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--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木地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小区总体分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5</a:t>
            </a:r>
            <a:r>
              <a:rPr b="0" lang="zh-CN" sz="4800" spc="-1" strike="noStrike">
                <a:solidFill>
                  <a:srgbClr val="007572"/>
                </a:solidFill>
                <a:latin typeface="华文行楷"/>
                <a:ea typeface="华文行楷"/>
              </a:rPr>
              <a:t>、小区信息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区数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房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地理位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装修数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装修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楼盘信息调查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莱茵阳光logo%20拷贝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5146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番茄花园</cp:lastModifiedBy>
  <dcterms:modified xsi:type="dcterms:W3CDTF">2007-07-18T00:54:49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